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7950-180D-4D20-B57B-C1C2270EC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6C3C-679B-4184-BF34-12EE748C8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0823-2AA2-48C8-84BC-2BF706131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1D51-6A2F-4471-99A6-2859AF462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2DFC-3545-498C-975E-AEEC0E4D9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68F4-203E-4CE6-B826-C9C954095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C5C9-D227-44C9-8B27-6F7F5F5F7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B211-E2FA-4819-8688-E9D554487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1D3E-2DDC-41C5-9849-EE9CEB913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9361-9C00-4CE0-BCD7-4AF6F178C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9705-E77E-4E79-9627-E87A32BFE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5BA8-2F4A-4CB5-ABA4-A6E755D69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143B0-5D83-40A8-B868-F45E9B15B7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sunit.net/" TargetMode="External"/><Relationship Id="rId2" Type="http://schemas.openxmlformats.org/officeDocument/2006/relationships/hyperlink" Target="mailto:edward@jsunit.net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programming.com/software.htm" TargetMode="External"/><Relationship Id="rId2" Type="http://schemas.openxmlformats.org/officeDocument/2006/relationships/hyperlink" Target="http://xprogramming.com/software.htm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jsunit.net/" TargetMode="External"/><Relationship Id="rId2" Type="http://schemas.openxmlformats.org/officeDocument/2006/relationships/hyperlink" Target="http://www.jsunit.net/" TargetMode="External"/><Relationship Id="rId3" Type="http://schemas.openxmlformats.org/officeDocument/2006/relationships/hyperlink" Target="http://www.jsunit.net/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Unit</a:t>
            </a:r>
            <a:br>
              <a:rPr sz="4400"/>
            </a:b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jsunit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8960" y="3428640"/>
            <a:ext cx="69339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introduction to unit testing in-browser JavaScript with Js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ward Hiea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edward@jsunit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bruary,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sUnit version 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295280" y="5638680"/>
            <a:ext cx="6934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Arial"/>
              </a:rPr>
              <a:t>Note: this presentation assumes the reader/audience is familiar with basic unit testing concep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sUnit Tracing (debugging output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sUnit includes certain functions that output “traces” to a debugging wind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ing is a way to view output without using JavaScript “aler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ing is an alternative to a debugger if one is not available for a certain browser/plat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3 trace func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ebug(message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level 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arn(message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level 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form(message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level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particular run of the tests, you can set the trace level to any of the 3 lev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es cascade, i.e. trace message at lower levels show up when the level is set hig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pported Browsers/O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S Internet Explorer 5.5+ 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NT/2000/XP/9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 OS 9, Mac OS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cko-based 0.9.4+ browsers on all platforms, e.g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zilla 0.9.4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efox 0.9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scape 6.2.3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nqueror 5+ on Linux KDE 3.0.1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fari 1.2+ on Mac OS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Unit: the most FA’d Q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sUnit is not usually appropriate for submitting forms/other navigation that interacts with a web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intended to test purely client-side functionality – it’s a unit testing framework of the in-browser JavaScript that usually lives in .js files included by generated/static HTML p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ing “walking through” a web application should be done in HTTPUnit/JWeb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most cases, the desire to submit a form points at the need to instead mock out the submission in order to create a true unit te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there is currently work in progress to support the ability for a Test Page to submit a form in a separate page that lives in a Frame/IFrame in the Test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Unit: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The automation of runs of JsUnit Test Pages/Suites on multiple local or remote browsers/OSs from an Ant script or JUnit suite (and hence in a continuous build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oals of automated test ru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have seen how JsUnit allows you to run your tests in almost any particular browser on most O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desirable to be able to easily run your tests i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your target brows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you are writing code and tests, without having to manually start up each browser and press “Ru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part of a regression test suite in a continuous bui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also important that the tests be run on target browsers on all the target OSs, rather than just one mach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want to get instant feedback on which test failed on which browser on which OS, and also create logs of each te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t is, we don’t want to have to get out of our seat and go to a bank of test machines running various browsers – we want visual or programmatic feedback, as we get with the green b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on on a single machine: Standalone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sUnit provides a Java JUnit TestCase class calle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et.jsunit.StandaloneTe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ndaloneTest can be invoked from the JsUnit Ant build.x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ou can configure StandaloneTest with respect to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ich browsers to run tests in (a list of paths to browser executabl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ich Test Page to run (usually it is your highest-level Test Suite Pag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en run, StandaloneTest starts each browser in turn and runs the specified Test Page without any user intera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f any test fails in any of the browsers, Standalone Test fails with a failure message indicating which test failed in which brows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this way, we can repeatedly run our Test Pages on all target browser for the machine we are using with the push of a butt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daloneTest: how it wo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loneTest starts a lightweight Java HTTP server called the JsUnit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browser is launched as an external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tain parameters are passed in the TestRunner URL that tell the test runner to collect results in a form field and submit the form to the JsUnitServer over HT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JsUnitServer waits for all browsers to finish, and inspects the submitted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ny browser fails, StandaloneTest fa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utomation on multiple machines: DistributedTes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153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aloneTest allows for automated runs on a single machine, but we still need to be able to automatically launch all our tests on all target O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means we need to be able to programmatically kick off JsUnit tests on remote mach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sUnit provides a second Java JUnit TestCase class calle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et.jsunit.Distributed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ributedTest is configured to be aware of a list of multiple remote mach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run, DistributedTest asks each remote machine in turn to run specified Tests on the browsers relevant for the respective 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remote machine runs the specified tests on each browser relevant to its 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any test fails on any browser on any remote machine, DistributedTest fails with an error message indicating the fail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is way, we can repeatedly run our Test pages on all target browser/OS combinations with the push of a but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tributedTest: how it wo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tart a JsUnit server on each remote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JsUnit server is configured with target browsers for its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JsUnit servers listen for requests from DistributedTest to run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Test tells each remote JsUnit server (over HTTP) to run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JsUnitServer runs Standalone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ach JsUnitServer, if any test fails on any browser, a failure message is sent back to DistributedTest; otherwise a success message is returned (the messages are XML strin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ny failure message is received, DistributedTest fa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nning in a continuous bu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loneTest can be repeatedly run by a developer as he/she is writing code and t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ever, StandaloneTest is a JUnit test, so it can be added to a JUnit suite just like any other test, and thereby run in a continuous bu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ternatively, because JsUnit can be launched from Ant, the Ant task can be added to a continuous build (such as Anthill or Cruise Contro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Unit: Par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Writing and manually running JavaScript Tests with the XUnit framework for in-browser JavaScrip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daloneTest: 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ach run, StandaloneTest writes a log file to di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ilename is generated (and unique) or it can be specified by a parameter in the TestRun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og file format matches JUnit’s; the details of each Test Function are gi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 Log F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7543800" cy="48574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8601120" y="6019920"/>
            <a:ext cx="542880" cy="74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n XUnit framewor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tandardized set of language-independent concepts and constructs for writing and running unit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an XUnit framework for virtually every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s are JUnit for Java, CppUnit for C++, PHPUnit for PHP, UTPL/SQL for Oracle SQ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itionally open-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support certain constru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Case and TestSuite are well-defined ent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ssertion syntax follows rough standards, e.g. assertEquals(comment, expected, actu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provide a TestRunner program to run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ed at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xprogramming.com/software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Unit: 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XUnit framework for Java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jsunit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.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(hosted on Sourcefor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rves the standards of a typical XUnit fra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ten in 100% Java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ns on “most” browser/platform combin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ment began in early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10,000 downloads and ~1000 members of the news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sUnit: conforming to XUn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 tests in JsUnit are call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st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Functions live in an HTML page called 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st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Test Page is any HTML page that has a JavaScript “include” o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sUnitCore.j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sUnitCore.j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vides the assertion functions of JsUnit, e.g.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ssertEquals(comment, arg1, arg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sUnit support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Up(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arDown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st Suite Pa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clare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uite(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unction that return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sUnitTestSui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grouping Test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JsUni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stRunner.htm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ge runs Test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estRunner HTML page can be run from a file server or a web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Unit &lt;-&gt; JsUn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49532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Js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Pages (HTM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 jsunit/app/jsUnitCore.j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Suite Pages (HTM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HTML/JS TestRun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 setUp(), tearDown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s in the target browser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Java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15192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J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Meth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Cla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nd junit.framework.Test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nit.framework.TestSu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WT/Swing/IDE TestRun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void setUp(), tearDown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s in the target Java V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Ja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Page Example 1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ing some simple math (code in Test Pa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head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script language="JavaScript" src="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../app/jsUnitCore.js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"&gt;&lt;/scri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script language="JavaScript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</a:rPr>
              <a:t>multiplyAndAddFiv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arg1, arg2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turn arg1*arg2+5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</a:rPr>
              <a:t>testWithValidArgu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Equal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2 times 3 plus 5 is 11", 11, multiplyAndAddFive(2, 3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Equal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Should work with negative numbers", -15, multiplyAndAddFive(-4, 5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</a:rPr>
              <a:t>testWithInvalidArgu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null argument", multiplyAndAddFive(2, null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string argument", multiplyAndAddFive(2, "a string"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undefined argument", multiplyAndAddFive(2,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</a:rPr>
              <a:t>JSUNIT_UNDEFINED_VAL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</a:rPr>
              <a:t>testStrictReturnTyp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NotEqual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Should return a number, not a string", "11", multiplyAndAddFive(2, 3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scri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head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Test Page for multiplyAndAddFive(arg1, arg2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body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html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Page example 2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ing form field/DOM interaction (code in .js fi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2280" y="685800"/>
            <a:ext cx="88394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head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script language="JavaScript" src=“/path/to/jsunit/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app/jsUnitCore.j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"&gt;&lt;/script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script language="JavaScript" src=“/path/to/my/app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/myCode.j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"&gt;&lt;/script&gt;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//contains a “validate” fun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script language="JavaScript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setUp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ocument.myForm.field1.value=“foo”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testInitialCondition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assertEqual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“”, document.getElementById(“resultMessage”).innerHTML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testPushOK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shOKButton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assertEqual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“No value in field 2”, document.getElementById(“resultMessage”).innerHTML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testFillingInField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ocument.myForm.field2.value=“bar”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shOKButton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assertEqual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“Good values”, document.getElementById(“resultMessage”).innerHTML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tearDow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ocument.myForm.field1.value=“”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ocument.myForm.field2.value=“”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pushOKButton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alidate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script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head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form name=“myForm”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input type=“text” name=“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field1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”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input type=“text” name=“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field1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”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div id=“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resultMessag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”&gt;&lt;/div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input type=“button” value=“OK” onclick=“validate()”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form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body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html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sUnit: the TestRun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6320" y="914400"/>
            <a:ext cx="806580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3T15:55:42Z</dcterms:created>
  <dc:creator>Edward Hieatt</dc:creator>
  <dc:description/>
  <dc:language>en-US</dc:language>
  <cp:lastModifiedBy>Edward Hieatt</cp:lastModifiedBy>
  <dcterms:modified xsi:type="dcterms:W3CDTF">2007-02-18T21:34:52Z</dcterms:modified>
  <cp:revision>353</cp:revision>
  <dc:subject/>
  <dc:title>JsUnit</dc:title>
</cp:coreProperties>
</file>